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2.gif" ContentType="image/gif"/>
  <Override PartName="/ppt/media/image25.jpeg" ContentType="image/jpeg"/>
  <Override PartName="/ppt/media/image4.jpeg" ContentType="image/jpeg"/>
  <Override PartName="/ppt/media/image29.jpeg" ContentType="image/jpeg"/>
  <Override PartName="/ppt/media/image26.jpeg" ContentType="image/jpeg"/>
  <Override PartName="/ppt/media/image5.jpeg" ContentType="image/jpeg"/>
  <Override PartName="/ppt/media/image8.png" ContentType="image/png"/>
  <Override PartName="/ppt/media/image33.png" ContentType="image/png"/>
  <Override PartName="/ppt/media/image11.jpeg" ContentType="image/jpeg"/>
  <Override PartName="/ppt/media/image9.jpeg" ContentType="image/jpeg"/>
  <Override PartName="/ppt/media/image20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096E-6823-414D-9D7E-46FEA2447C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" Target="../slides/slide13.xml"/><Relationship Id="rId5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" Target="../slides/slide16.xml"/><Relationship Id="rId6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hyperlink" Target="http://gramoty.ru/index.php?act=full&amp;id=207" TargetMode="External"/><Relationship Id="rId2" Type="http://schemas.openxmlformats.org/officeDocument/2006/relationships/hyperlink" Target="http://gramoty.ru/index.php?no=9&amp;act=full&amp;key=bb" TargetMode="External"/><Relationship Id="rId3" Type="http://schemas.openxmlformats.org/officeDocument/2006/relationships/hyperlink" Target="http://gramoty.ru/index.php?no=366&amp;act=full&amp;key=bb" TargetMode="External"/><Relationship Id="rId4" Type="http://schemas.openxmlformats.org/officeDocument/2006/relationships/slide" Target="../slides/slide25.xml"/><Relationship Id="rId5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Культура Древней</a:t>
            </a: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Ру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ок истории в 6 кла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Каримова Галина Михайл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учитель высшей категории МОУ СОШ № 11 г. Гремячинска Перм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771D-AB2D-460F-B0FC-1AFB91E742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D441-1B05-44DD-B4B2-436CF5CA32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Зодчество</a:t>
            </a:r>
            <a:r>
              <a:rPr b="1" i="1" lang="en-US" sz="12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и живопи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андинавские историки называют Русь страной городов. Летописи сообщают о 24 городах в Киевской Рус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ый крупный из них – Кие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род киевского князя Ярослава Мудрого  окружали высокие земляные валы общей протяженностью 3,5 километ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9E42-F9AB-490C-BF53-A1FAA55168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Золотые ворота в Киев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— мощная боевая башня с возвышавшейся над нею церковью Благовещения — вызывала восторг современников и навевала ужас на врагов своей неприступност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E973-C164-45BA-9EB5-8D2555F476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Georgia"/>
              </a:rPr>
              <a:t>Софийский собор в Киеве.          XI век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йский собор был построен по образцу византий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лане храма основу составлял крест, образованный основным и  боковыми неф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купол окружали размещенные чуть ниже четыре средних купола, за которыми еще ниже стояли восемь малых. Так однокупольный византийский храм преобразовывался в многокупольную пирами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986B-D3E6-4719-B301-B95CFAD05E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Софийский собор в Киеве. 1017—1037. Общий вид</a:t>
            </a: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7887-5FB0-44DC-9B6A-A9D2BFB848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Зодчество и жив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ор Святой Софии расположен в самом центре города. Сохранились и через века дошли до нас 260 кв.м. мозаик и 3 тысячи кв.м. фрес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9FDF-7260-453D-95F9-0B4E410911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оны, как правило писались на липовой до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Специфика иконописного пись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гуры изображались плоски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подвижными,    использовались особая   система изображения пространства (обратная перспектива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евременное изображен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гуры не отбрасывают тен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чение вокруг головы в виде круга (нимб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ED4E-787A-4E29-842D-59D0427F0E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неукоснительно следовать канону, иконописцы пользовались в виде образцов либо древними иконами, либо иконописными подлинн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DABE-384F-46D3-8680-FE67A61E19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Georgia"/>
              </a:rPr>
              <a:t>Софийский собор в Новгород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овгород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расположенном на севере страны, втором по значению и величине городе Киевског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осударств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05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остроен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б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в.Со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9998-4276-42A0-8669-A44EBC5765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оха Киевской Руси ознаменовалось расцветом художественных ремесел, среди которых видное место заняла обработка металлов, в частности ювелирное дело, центром которого стал Киев. Основы металлических изделий выполнялись техникой литья, которую использовали для создания как уникальных, так и изделий массового употребления. Для первых применяли восковую модель, для вторых – каменные формоч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E0E3-BBA2-437E-91B8-19EE78F72D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7479-3F0A-435D-8D68-F279B06A87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понятие мы изучаем уже не первый раз. Давайте вспомним определение понятия «Культура». На какие виды условно его разделяют историки? Далее суммируются ответы учащихся и вывод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Определение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ся определени термина «культур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B030-52A3-49F1-AF5A-A0DCEFD2AE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20000"/>
                </a:solidFill>
                <a:latin typeface="Georgia"/>
              </a:rPr>
              <a:t>Зер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ие золотые или серебряные шарики (диам. от 0,4 мм), которые напаиваются в ювелирных изделиях на орнамент. Зернь создаёт эффектную фактуру, игру свето-т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650D-A69C-4B48-B84F-B3392F4EC3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20000"/>
                </a:solidFill>
                <a:latin typeface="Georgia"/>
              </a:rPr>
              <a:t>Ска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а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т др.-рус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— свивать), филигрань — вид ювелирной техники: ажурный или напаянный на металлический фон узор из тонкой золотой, серебряной или медной проволоки, гладкой или свитой в верёвочки. Изделия из скани часто дополняются зернью (маленькие серебряные или золотые шарики) и эмал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C155-8109-4221-8919-EE7CFFE8D1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20000"/>
                </a:solidFill>
                <a:latin typeface="Georgia"/>
              </a:rPr>
              <a:t>Перегородчатая эм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ты с изображениями птиц по сторонам «древа жизни» и цепь-рясна из бляшек для крепления колтов. Золото. Перегородчатая эмаль. XII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0E83-AF1F-40FA-92AE-B9CE46B353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роверим себ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C326-4051-485B-8541-98DD533032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Georgia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://gramoty.ru/index.php?act=full&amp;id=2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http://gramoty.ru/index.php?no=9&amp;act=full&amp;key=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  <a:hlinkClick r:id="rId3"/>
              </a:rPr>
              <a:t>http://gramoty.ru/index.php?no=366&amp;act=full&amp;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http://www.bibliotekar.ru/rusNovgorod/66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museum.edu.ru/catalog.asp?cat_ob_no=12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3616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www.expressiysv.kiev.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ru.wikipedia.org/w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eorgia"/>
              </a:rPr>
              <a:t>http://www.jewellerymuseum.ru/russia/russ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3DA7-EC14-438C-82D6-F84BB91EE5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Особенности культуры Древней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Устное народное твор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исьменность и грамот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Литера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Зодчество и живоп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Художественное реме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F33A-7986-4938-A854-04F900863B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Особенности культуры Древней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у древнерусской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ультур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авляло наследие восточных славя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евнерусская культура впитывала в себя культурные достижения проживавших в составе Руси и окружающих ее нар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ьшое влияние на русскую культуру оказала Византия, особенно после принятия христиан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вая свои творения, древнерусские мастера не стали слепо подражать своим византийским учителям. они стремились отразить в них думы и чаяния русского нар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ным мотивом древнерусского искусства был 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атриотиз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призыв к объединению народных сил против внешних вра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4BCF-92C4-485F-8894-4C8C31C10E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4842-15C7-448F-A006-98C22019AC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итывается отрывок из былины. Учащиеся называют название былины и ее главного героя. После этого демонстрируется картина «Три богатыря». Вопрос к учащимся: «Кто автор данной картины?»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 Устное народное твор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того ли то из города из Муром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того села да Карачаров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езжал удаленький дородный добрый молодец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н стоял заутреню во Муроме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й к обеденке поспеть хотел он в стольный Киев-град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 подъехал он ко славному ко городу к Чернигову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 того ли города Чернигов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гнано-то силушки черным-черно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й черным-черно, как черна ворон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 пехотою никто тут не прохажи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добром коне никто тут не проезжи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тица черный ворон не пролёты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рый зверь да не прорыскиват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Летопис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ждый крупный город вел свою летоп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жда между князьями приводила к тому, что в летописях искажались отдельные события. Огромную роль для нашей истории сыграл, написанный в н.12 в. монахом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Нестором,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уд </a:t>
            </a:r>
            <a:r>
              <a:rPr b="1" i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«Повесть Временных ле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A869-8892-4630-BEA1-35F060E21C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7BB5-741D-4E77-BC32-7EA994A29B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амотность была распространена не только среди феодалов, но и среди горожан. Об этом говорят многочисленные берестяные грамоты, а также надписи-граффити на ст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Граффити – древние надписи бытового характера, рисунки, нацарапанные на стенах зданий и п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4FC0-8221-450C-81CD-7054BFE9C8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От Гостяты к Василю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Что мне дал отец и родичи дали впридачу, то за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теперь, женясь на новой жене, мне он не дает ничего. Ударив по рукам (в знак новой помолвки), он меня прогнал, а другую взял в жены. Приезжай, сделай милость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496A-7694-4A10-8D8A-57CCAC59D9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6C8-429C-49FD-8890-AA0128C9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B871-337A-42B1-A270-78E5CA6C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906-3914-4093-92C8-1F9C13FF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A33-D062-4DED-8771-A3FF6E10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481A-1987-49FF-8EB6-12839179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64FA-CF8C-4B64-A0D3-C18F3225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C076-9A0F-4CDD-9269-CE19C6D2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179E-7F47-4101-9578-9461F333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758D-7FD2-4971-AF41-01783EC5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6609-6184-4421-8FB6-F9AC0286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79AA-B8AB-4040-838E-FDF34F97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E252-32D4-4DE8-A53B-4A8AF71B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5AE7-112B-45E7-8BC6-3FB1E2F8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98E6-DB76-4878-80E7-A5B6FCF6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5CC2-4DAA-4DBC-AAEC-7ABF7B58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E459-B5A9-4AAB-BFC6-AF4786E1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358F-1A2C-4A51-B43D-F01D46CE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BB7-47C7-4F00-90FE-6AA9A46A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2C8-A8B7-400E-83EE-686FF932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0B1-26DD-49C0-9A7D-DA1C8A8B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B1F-BB4F-4F81-8681-CA8DD05A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328-34B9-4723-9054-CBD10061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BF4D-D442-48E3-96B3-33EB1FAB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2A1-9723-4808-AEA3-DBF5037F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1885-6E9B-4073-BC2B-770D8E0ADA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720E-E04B-4126-8C71-86C2570F1E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hyperlink" Target="http://gramoty.ru/gramoty/bb366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gramoty.ru/prorisi/bb366.gif" TargetMode="Externa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Cathedral_of_St._Sophia%2C_the_Holy_Wisdom_of_God_in_Novgorod%2C_Russia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udetinteresno.narod.ru/images/zoloto_kubani_3_67.jpg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jewellerynews.ru/issue_7/hystory_7_3/pic13.jpg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rt.1september.ru/2003/11/no11_4.gif" TargetMode="External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d/Klad_desyatinnaya.jp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82;&#1088;&#1086;&#1089;&#1089;&#1074;&#1086;&#1088;&#1076;%20&#1082;%20&#1091;&#1088;&#1086;&#1082;&#1091;.ppt" TargetMode="External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gramoty.ru/index.php?act=full&amp;id=207" TargetMode="External"/><Relationship Id="rId2" Type="http://schemas.openxmlformats.org/officeDocument/2006/relationships/hyperlink" Target="http://gramoty.ru/index.php?no=9&amp;act=full&amp;key=bb" TargetMode="External"/><Relationship Id="rId3" Type="http://schemas.openxmlformats.org/officeDocument/2006/relationships/hyperlink" Target="http://gramoty.ru/index.php?no=366&amp;act=full&amp;key=bb" TargetMode="External"/><Relationship Id="rId4" Type="http://schemas.openxmlformats.org/officeDocument/2006/relationships/hyperlink" Target="http://www.expressiysv.kiev.ua/" TargetMode="External"/><Relationship Id="rId5" Type="http://schemas.openxmlformats.org/officeDocument/2006/relationships/hyperlink" Target="http://ru.wikipedia.org/wiki" TargetMode="External"/><Relationship Id="rId6" Type="http://schemas.openxmlformats.org/officeDocument/2006/relationships/hyperlink" Target="http://www.jewellerymuseum.ru/russia/russia.htm?id=russia_hist_1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Georgia"/>
              </a:rPr>
              <a:t>Культура Древней</a:t>
            </a:r>
            <a:r>
              <a:rPr b="0" lang="ru-RU" sz="60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6000" spc="-1" strike="noStrike">
                <a:solidFill>
                  <a:srgbClr val="800000"/>
                </a:solidFill>
                <a:latin typeface="Georgia"/>
              </a:rPr>
              <a:t>Руси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35049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Урок истории в 6 класс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800000"/>
                </a:solidFill>
                <a:latin typeface="Verdana"/>
              </a:rPr>
              <a:t>Каримова Галина Михайловна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учитель высшей категории МОУ СОШ № 11 г. Гремячинска Пермского кр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Фото0014"/>
          <p:cNvPicPr/>
          <p:nvPr/>
        </p:nvPicPr>
        <p:blipFill>
          <a:blip r:embed="rId1"/>
          <a:stretch/>
        </p:blipFill>
        <p:spPr>
          <a:xfrm>
            <a:off x="6095880" y="4038480"/>
            <a:ext cx="2743200" cy="1941480"/>
          </a:xfrm>
          <a:prstGeom prst="rect">
            <a:avLst/>
          </a:prstGeom>
          <a:ln w="12600">
            <a:solidFill>
              <a:srgbClr val="ffcc99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9" descr="bb203"/>
          <p:cNvPicPr/>
          <p:nvPr/>
        </p:nvPicPr>
        <p:blipFill>
          <a:blip r:embed="rId1"/>
          <a:stretch/>
        </p:blipFill>
        <p:spPr>
          <a:xfrm>
            <a:off x="4724280" y="1523880"/>
            <a:ext cx="4038840" cy="2268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онфим1"/>
          <p:cNvPicPr/>
          <p:nvPr/>
        </p:nvPicPr>
        <p:blipFill>
          <a:blip r:embed="rId2"/>
          <a:stretch/>
        </p:blipFill>
        <p:spPr>
          <a:xfrm>
            <a:off x="4648320" y="4114800"/>
            <a:ext cx="4114800" cy="2255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6" descr="Берестяная грамота №366">
            <a:hlinkClick r:id="rId3"/>
          </p:cNvPr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28600" y="1523880"/>
            <a:ext cx="4191120" cy="2286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bb366">
            <a:hlinkClick r:id="rId5"/>
          </p:cNvPr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28600" y="4114800"/>
            <a:ext cx="4041720" cy="220968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Зодчество</a:t>
            </a:r>
            <a:r>
              <a:rPr b="1" i="1" lang="en-US" sz="44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и живопис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ндинавские историки называют Русь страной городов. Летописи сообщают о 24 городах в Киевской Рус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амый крупный из них – Киев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ород киевского князя Ярослава Мудрого  окружали высокие земляные валы общей протяженностью 3,5 километр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10" descr="Рисунок8"/>
          <p:cNvPicPr/>
          <p:nvPr/>
        </p:nvPicPr>
        <p:blipFill>
          <a:blip r:embed="rId1"/>
          <a:stretch/>
        </p:blipFill>
        <p:spPr>
          <a:xfrm>
            <a:off x="533520" y="1219320"/>
            <a:ext cx="5410080" cy="51051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1"/>
          <p:cNvSpPr/>
          <p:nvPr/>
        </p:nvSpPr>
        <p:spPr>
          <a:xfrm>
            <a:off x="228600" y="64612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 Киева в середи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426708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Золотые ворота в Киев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57200" y="152388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олотые ворота были главным въездом в Кие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533520" y="1676520"/>
            <a:ext cx="396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— мощная боевая башня с возвышавшейся над нею церковью Благовещения — вызывала восторг современников и навевала ужас на врагов своей неприступностью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15" descr="Золотые ворота"/>
          <p:cNvPicPr/>
          <p:nvPr/>
        </p:nvPicPr>
        <p:blipFill>
          <a:blip r:embed="rId1"/>
          <a:stretch/>
        </p:blipFill>
        <p:spPr>
          <a:xfrm>
            <a:off x="4495680" y="380880"/>
            <a:ext cx="4456080" cy="5486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6"/>
          <p:cNvSpPr/>
          <p:nvPr/>
        </p:nvSpPr>
        <p:spPr>
          <a:xfrm>
            <a:off x="4648320" y="594360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Здесь находился парадный въезд "в город Ярослава"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Софийский собор в Киеве.          XI век.</a:t>
            </a:r>
            <a:br>
              <a:rPr sz="3600"/>
            </a:b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фийский собор был построен по образцу византийског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плане храма основу составлял крест, образованный основным и  боковыми неф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альный купол окружали размещенные чуть ниже четыре средних купола, за которыми еще ниже стояли восемь малых. Так однокупольный византийский храм преобразовывался в многокупольную пирамид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9" descr="2"/>
          <p:cNvPicPr/>
          <p:nvPr/>
        </p:nvPicPr>
        <p:blipFill>
          <a:blip r:embed="rId4"/>
          <a:stretch/>
        </p:blipFill>
        <p:spPr>
          <a:xfrm>
            <a:off x="4572000" y="2133720"/>
            <a:ext cx="4419720" cy="4495680"/>
          </a:xfrm>
          <a:prstGeom prst="rect">
            <a:avLst/>
          </a:prstGeom>
          <a:ln w="12600">
            <a:solidFill>
              <a:srgbClr val="999900"/>
            </a:solidFill>
            <a:miter/>
          </a:ln>
        </p:spPr>
      </p:pic>
      <p:sp>
        <p:nvSpPr>
          <p:cNvPr id="190" name="Text Box 11"/>
          <p:cNvSpPr/>
          <p:nvPr/>
        </p:nvSpPr>
        <p:spPr>
          <a:xfrm>
            <a:off x="5867280" y="16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нструкц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4" descr="София К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380880" y="152280"/>
            <a:ext cx="8382240" cy="60040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1447920" y="61722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офийский собор в Киеве. 1017—1037. Общий вид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Зодчество и живопись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бор Святой Софии расположен в самом центре города. Сохранились и через века дошли до нас 260 кв.м. мозаик и 3 тысячи кв.м. фресо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AutoShape 18"/>
          <p:cNvSpPr/>
          <p:nvPr/>
        </p:nvSpPr>
        <p:spPr>
          <a:xfrm>
            <a:off x="457200" y="3352680"/>
            <a:ext cx="4038480" cy="16002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AutoShape 19"/>
          <p:cNvSpPr/>
          <p:nvPr/>
        </p:nvSpPr>
        <p:spPr>
          <a:xfrm>
            <a:off x="1981080" y="4724280"/>
            <a:ext cx="3733920" cy="18288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685800" y="35812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озаика – картина из вдавленных в сырую штукатурку стекловидных камешков (смальт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2209680" y="510552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Фреска – картина, написанная водяными красками по сырой штукатур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5943600" y="8380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Мозаики Софийского собора в Киев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25" descr="Оранта"/>
          <p:cNvPicPr/>
          <p:nvPr/>
        </p:nvPicPr>
        <p:blipFill>
          <a:blip r:embed="rId1"/>
          <a:stretch/>
        </p:blipFill>
        <p:spPr>
          <a:xfrm>
            <a:off x="6019920" y="1676520"/>
            <a:ext cx="2790720" cy="48006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190760" y="1447560"/>
            <a:ext cx="4647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коны, как правило писались на липовой дос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Специфика иконописного письм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гуры изображались плоским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подвижными,    использовались особая   система изображения пространства (обратная перспектива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евременное изображени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гуры не отбрасывают тен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ечение вокруг головы в виде круга (нимб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28600" y="571500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Адриан святой. Фреска Софийского собора в Киеве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4419720" y="609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Иконо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Адриан"/>
          <p:cNvPicPr/>
          <p:nvPr/>
        </p:nvPicPr>
        <p:blipFill>
          <a:blip r:embed="rId5"/>
          <a:stretch/>
        </p:blipFill>
        <p:spPr>
          <a:xfrm>
            <a:off x="457200" y="533520"/>
            <a:ext cx="2990880" cy="48862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тобы неукоснительно следовать канону, иконописцы пользовались в виде образцов либо древними иконами, либо иконописными подлинник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4343400" y="4038480"/>
            <a:ext cx="4648320" cy="259092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5105520" y="4419720"/>
            <a:ext cx="3200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анон – свод положений, норм, прави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Мог быть “лицевым” и “словесным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16" descr="мозаика"/>
          <p:cNvPicPr/>
          <p:nvPr/>
        </p:nvPicPr>
        <p:blipFill>
          <a:blip r:embed="rId1"/>
          <a:stretch/>
        </p:blipFill>
        <p:spPr>
          <a:xfrm>
            <a:off x="380880" y="685800"/>
            <a:ext cx="373392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7"/>
          <p:cNvSpPr/>
          <p:nvPr/>
        </p:nvSpPr>
        <p:spPr>
          <a:xfrm>
            <a:off x="228600" y="57913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оанн Златоуст. Мозаика Софийского собора в Кие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4952880" y="380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Иконо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Софийский собор в Новгород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72392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вгород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расположенном на севере страны, втором по значению и величине городе Киевского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государств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в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1052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построен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обор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Св.Соф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5105520" y="1752480"/>
            <a:ext cx="4038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троена София новгородская в основном из камня, и только арки порталов, и оконных проёмов выложены из кирпича, а своды в интерьере - частично из камня, частично из кирпи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12" descr="Изображение:Cathedral of St. Sophia, the Holy Wisdom of God in Novgorod, Russ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95280"/>
            <a:ext cx="4419360" cy="43434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3"/>
          <p:cNvSpPr/>
          <p:nvPr/>
        </p:nvSpPr>
        <p:spPr>
          <a:xfrm>
            <a:off x="228600" y="57150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авный православный храм Великого Новгорода, созданный в 1045—1050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года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95320" y="175212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оха Киевской Руси ознаменовалось расцветом художественных ремесел, среди которых видное место заняла обработка металлов, в частности ювелирное дело, центром которого стал Киев. Основы металлических изделий выполнялись техникой литья, которую использовали для создания как уникальных, так и изделий массового употребления. Для первых применяли восковую модель, для вторых – каменные формоч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7" descr="y_mon"/>
          <p:cNvPicPr/>
          <p:nvPr/>
        </p:nvPicPr>
        <p:blipFill>
          <a:blip r:embed="rId1"/>
          <a:stretch/>
        </p:blipFill>
        <p:spPr>
          <a:xfrm>
            <a:off x="380880" y="1600200"/>
            <a:ext cx="3954600" cy="41576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152280" y="59436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Гривна Владимира Мономах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104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Определение культ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1447920"/>
            <a:ext cx="6019920" cy="91440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752480" y="16758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уль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09480" y="2895480"/>
            <a:ext cx="2895840" cy="83844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181480" y="2895480"/>
            <a:ext cx="2895840" cy="76212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838080" y="31240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8380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атериаль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486400" y="3124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ухов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2590920" y="2362320"/>
            <a:ext cx="1676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4267080" y="236232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838080" y="4800600"/>
            <a:ext cx="6934320" cy="17524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47920" y="518148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истема созданных человеком материальных и культурных ценностей на определенном историческом этап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6" descr="ag00029_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848720" y="304920"/>
            <a:ext cx="1295280" cy="10666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7"/>
          <p:cNvSpPr/>
          <p:nvPr/>
        </p:nvSpPr>
        <p:spPr>
          <a:xfrm>
            <a:off x="1066680" y="3962520"/>
            <a:ext cx="6019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0000"/>
                </a:solidFill>
                <a:latin typeface="Arial"/>
              </a:rPr>
              <a:t>Что относится к материальной культур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0000"/>
                </a:solidFill>
                <a:latin typeface="Arial"/>
              </a:rPr>
              <a:t>Что относится к духовной культур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31" name="Picture 11" descr="2454m"/>
          <p:cNvPicPr/>
          <p:nvPr/>
        </p:nvPicPr>
        <p:blipFill>
          <a:blip r:embed="rId1"/>
          <a:stretch/>
        </p:blipFill>
        <p:spPr>
          <a:xfrm>
            <a:off x="6172200" y="1676520"/>
            <a:ext cx="2438280" cy="281916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2"/>
          <p:cNvSpPr/>
          <p:nvPr/>
        </p:nvSpPr>
        <p:spPr>
          <a:xfrm>
            <a:off x="5486400" y="4648320"/>
            <a:ext cx="3429000" cy="22096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5791320" y="5029200"/>
            <a:ext cx="28954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льчуга - оборонительный доспех из продетых друг в друга железных колец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6095880" y="990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оин в доспех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9" descr="skan"/>
          <p:cNvPicPr/>
          <p:nvPr/>
        </p:nvPicPr>
        <p:blipFill>
          <a:blip r:embed="rId2"/>
          <a:stretch/>
        </p:blipFill>
        <p:spPr>
          <a:xfrm>
            <a:off x="228600" y="1752480"/>
            <a:ext cx="2381400" cy="21243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0"/>
          <p:cNvSpPr/>
          <p:nvPr/>
        </p:nvSpPr>
        <p:spPr>
          <a:xfrm>
            <a:off x="2971800" y="152388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ережка-подвеска 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І-ХІІІ с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5" descr="Шлем Ярослава Всеволодовча"/>
          <p:cNvPicPr/>
          <p:nvPr/>
        </p:nvPicPr>
        <p:blipFill>
          <a:blip r:embed="rId3"/>
          <a:stretch/>
        </p:blipFill>
        <p:spPr>
          <a:xfrm>
            <a:off x="2819520" y="2743200"/>
            <a:ext cx="2492280" cy="37814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6"/>
          <p:cNvSpPr/>
          <p:nvPr/>
        </p:nvSpPr>
        <p:spPr>
          <a:xfrm>
            <a:off x="228600" y="487692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Шлем Ярослава Всеволодович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0000"/>
                </a:solidFill>
                <a:latin typeface="Georgia"/>
              </a:rPr>
              <a:t>Зерн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лкие золотые или серебряные шарики (диам. от 0,4 мм), которые напаиваются в ювелирных изделиях на орнамент. Зернь создаёт эффектную фактуру, игру свето-т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7" descr="Картинка 6 из 160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334120" y="304920"/>
            <a:ext cx="3276360" cy="3581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Картинка 25 из 16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4038480"/>
            <a:ext cx="2857680" cy="25527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0"/>
          <p:cNvSpPr/>
          <p:nvPr/>
        </p:nvSpPr>
        <p:spPr>
          <a:xfrm>
            <a:off x="1676520" y="6019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ережка-подвес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6705720" y="44956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усина, украшенная зернью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0000"/>
                </a:solidFill>
                <a:latin typeface="Georgia"/>
              </a:rPr>
              <a:t>Скан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4572000"/>
            <a:ext cx="80773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н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от др.-рус.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к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 свивать), филигрань — вид ювелирной техники: ажурный или напаянный на металлический фон узор из тонкой золотой, серебряной или медной проволоки, гладкой или свитой в верёвочки. Изделия из скани часто дополняются зернью (маленькие серебряные или золотые шарики) и эмаль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7" descr="Картинка 12 из 622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048120" y="380880"/>
            <a:ext cx="5790960" cy="414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Колт. Серебро. Скань. XII в."/>
          <p:cNvPicPr/>
          <p:nvPr/>
        </p:nvPicPr>
        <p:blipFill>
          <a:blip r:embed="rId3"/>
          <a:stretch/>
        </p:blipFill>
        <p:spPr>
          <a:xfrm>
            <a:off x="380880" y="1828800"/>
            <a:ext cx="2562480" cy="23716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20000"/>
                </a:solidFill>
                <a:latin typeface="Georgia"/>
              </a:rPr>
              <a:t>Перегородчатая эмал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312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ты с изображениями птиц по сторонам «древа жизни» и цепь-рясна из бляшек для крепления колтов. Золото. Перегородчатая эмаль. XII 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5" descr="Файл:Klad desyatinnay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5562720" cy="4659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086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роверим себя…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58" name="Picture 3" descr="D:\Мои документы\Коллекция картинок (Microsoft)\j043316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12920" y="1981080"/>
            <a:ext cx="4797360" cy="36021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Ресурс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eorgia"/>
                <a:hlinkClick r:id="rId1"/>
              </a:rPr>
              <a:t>http://gramoty.ru/index.php?act=full&amp;id=20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2"/>
              </a:rPr>
              <a:t>http://gramoty.ru/index.php?no=9&amp;act=full&amp;key=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eorgia"/>
                <a:hlinkClick r:id="rId3"/>
              </a:rPr>
              <a:t>http://gramoty.ru/index.php?no=366&amp;act=full&amp;k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http://www.bibliotekar.ru/rusNovgorod/66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museum.edu.ru/catalog.asp?cat_ob_no=12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3616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4"/>
              </a:rPr>
              <a:t>http://www.expressiysv.kiev.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5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6"/>
              </a:rPr>
              <a:t>http://www.jewellerymuseum.ru/russia/russ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План уро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7" name="Picture 4" descr="ag00029_"/>
          <p:cNvPicPr/>
          <p:nvPr/>
        </p:nvPicPr>
        <p:blipFill>
          <a:blip r:embed="rId1"/>
          <a:stretch/>
        </p:blipFill>
        <p:spPr>
          <a:xfrm>
            <a:off x="7620120" y="12193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118" name="Documents"/>
          <p:cNvSpPr/>
          <p:nvPr/>
        </p:nvSpPr>
        <p:spPr>
          <a:xfrm>
            <a:off x="838080" y="1523880"/>
            <a:ext cx="6858000" cy="5334120"/>
          </a:xfrm>
          <a:custGeom>
            <a:avLst/>
            <a:gdLst>
              <a:gd name="textAreaLeft" fmla="*/ 522000 w 6858000"/>
              <a:gd name="textAreaRight" fmla="*/ 5245920 w 6858000"/>
              <a:gd name="textAreaTop" fmla="*/ 1029960 h 5334120"/>
              <a:gd name="textAreaBottom" fmla="*/ 4275720 h 53341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19320" y="2133720"/>
            <a:ext cx="48765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Особенности культуры Древней Рус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Устное народное творчест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исьменность и грамот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Литерату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Зодчество и живопи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Художественное ремесл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Особенности культуры Древней Рус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нову древнерусской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ультуры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ставляло наследие восточных славя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ревнерусская культура впитывала в себя культурные достижения проживавших в составе Руси и окружающих ее народ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ольшое влияние на русскую культуру оказала Византия, особенно после принятия христианств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здавая свои творения, древнерусские мастера не стали слепо подражать своим византийским учителям. они стремились отразить в них думы и чаяния русского нар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523880" y="4721400"/>
            <a:ext cx="6553440" cy="1700280"/>
          </a:xfrm>
          <a:prstGeom prst="rect">
            <a:avLst/>
          </a:prstGeom>
          <a:solidFill>
            <a:srgbClr val="e7d091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мотивом древнерусского искусства был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атриотиз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ризыв к объединению народных сил против внешних враг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Устное народное творчество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9" descr="bogatyri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33520" y="4040280"/>
            <a:ext cx="3314520" cy="20606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0"/>
          <p:cNvSpPr/>
          <p:nvPr/>
        </p:nvSpPr>
        <p:spPr>
          <a:xfrm>
            <a:off x="609480" y="2133720"/>
            <a:ext cx="1905120" cy="53316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066680" y="220968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ес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1371600" y="2666880"/>
            <a:ext cx="2209680" cy="60984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1905120" y="281664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Былин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1981080" y="3276720"/>
            <a:ext cx="2210040" cy="6094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514600" y="342900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ка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4419720" y="1368720"/>
            <a:ext cx="4495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того ли то из города из Муром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того села да Карачаров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езжал удаленький дородный добрый молодец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стоял заутреню во Муром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 к обеденке поспеть хотел он в стольный Киев-град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й подъехал он ко славному ко городу к Чернигов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того ли города Чернигов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нано-то силушки черным-черно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 черным-черно, как черна ворона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 пехотою никто тут не прохажи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бром коне никто тут не проезжи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ица черный ворон не пролёты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ый зверь да не прорыскиват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304920" y="6324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Васнецов. Три богатыр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228600" y="13716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0000"/>
                </a:solidFill>
                <a:latin typeface="Arial"/>
              </a:rPr>
              <a:t>Что мы подразумеваем под термином УН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4876920" y="6400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0000"/>
                </a:solidFill>
                <a:latin typeface="Arial"/>
              </a:rPr>
              <a:t>Вы узнали отрыв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Летописание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3505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ждый крупный город вел свою летопис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ражда между князьями приводила к тому, что в летописях искажались отдельные события. Огромную роль для нашей истории сыграл, написанный в н.12 в. монахом</a:t>
            </a: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Verdana"/>
              </a:rPr>
              <a:t>Нестором,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уд </a:t>
            </a: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«Повесть Временных лет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8" descr="Рисунок2"/>
          <p:cNvPicPr/>
          <p:nvPr/>
        </p:nvPicPr>
        <p:blipFill>
          <a:blip r:embed="rId1"/>
          <a:stretch/>
        </p:blipFill>
        <p:spPr>
          <a:xfrm>
            <a:off x="380880" y="1371600"/>
            <a:ext cx="2210040" cy="4343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152280" y="579132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ица из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пис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10" descr="Рисунок2"/>
          <p:cNvPicPr/>
          <p:nvPr/>
        </p:nvPicPr>
        <p:blipFill>
          <a:blip r:embed="rId2"/>
          <a:stretch/>
        </p:blipFill>
        <p:spPr>
          <a:xfrm>
            <a:off x="6324480" y="609480"/>
            <a:ext cx="2613240" cy="4572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6553080" y="52578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т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3048120" y="5486400"/>
            <a:ext cx="3581280" cy="13716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276720" y="5867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Летопись – погодная запись событ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untitled"/>
          <p:cNvPicPr/>
          <p:nvPr/>
        </p:nvPicPr>
        <p:blipFill>
          <a:blip r:embed="rId1"/>
          <a:stretch/>
        </p:blipFill>
        <p:spPr>
          <a:xfrm>
            <a:off x="380880" y="1752480"/>
            <a:ext cx="5029200" cy="43434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49528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486400" y="228600"/>
            <a:ext cx="32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ьменность у восточных славян зародилась до принятия христианства. Славянскую азбуку создали византийские монахи Кирилл и Мефодий. При церквях и монастырях были открыты школы. Появляются первые рукописные кни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фавиты кириллица и глаголи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12" descr="Рисунок1"/>
          <p:cNvPicPr/>
          <p:nvPr/>
        </p:nvPicPr>
        <p:blipFill>
          <a:blip r:embed="rId2"/>
          <a:stretch/>
        </p:blipFill>
        <p:spPr>
          <a:xfrm>
            <a:off x="5715000" y="3962520"/>
            <a:ext cx="2971800" cy="2057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3"/>
          <p:cNvSpPr/>
          <p:nvPr/>
        </p:nvSpPr>
        <p:spPr>
          <a:xfrm>
            <a:off x="5334120" y="62164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атюр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рукописной книг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43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амотность была распространена не только среди феодалов, но и среди горожан. Об этом говорят многочисленные берестяные грамоты, а также надписи-граффити на стен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7" descr="граффити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181480" y="1600200"/>
            <a:ext cx="3624480" cy="4525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5486400" y="62485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фи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533520" y="4343400"/>
            <a:ext cx="4267080" cy="22860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838080" y="4952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раффити – древние надписи бытового характера, рисунки, нацарапанные на стенах зданий и п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Verdana"/>
              </a:rPr>
              <a:t>От Гостяты к Василю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Что мне дал отец и родичи дали впридачу, то за ни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 теперь, женясь на новой жене, мне он не дает ничего. Ударив по рукам (в знак новой помолвки), он меня прогнал, а другую взял в жены. Приезжай, сделай милость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1" descr="untitled-2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8320" y="152388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untitled-3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4648320" y="4351320"/>
            <a:ext cx="4038480" cy="19731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римова Галина Михайловна</dc:creator>
  <dc:description/>
  <dc:language>en-US</dc:language>
  <cp:lastModifiedBy>LEGION</cp:lastModifiedBy>
  <dcterms:modified xsi:type="dcterms:W3CDTF">2015-01-14T10:01:52Z</dcterms:modified>
  <cp:revision>35</cp:revision>
  <dc:subject>Культура Киевской Руси</dc:subject>
  <dc:title>Культура Киевской Ру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